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004-A730-4FE0-AE93-7FA36EAC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23AB-CFC1-4773-A897-797770AE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5C0-D379-4386-89E3-A9785ECB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C91-9BB3-4975-A03C-28DF2EFB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38F0-3177-496A-AC9D-E7C67663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BCAB-B8AF-413D-A2D6-CE4AAB2D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C489-8959-4123-A2D7-7E834A1A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92EB-1E55-43C7-8687-8E1279E9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AB78-E115-4558-9EF0-4310BA3D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13F2-F8F3-4E77-984D-EB6F5A27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44A8-89D3-4526-A27B-DEC983B1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808-F375-4D05-B1E6-425ED50E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70D7-56F2-4B62-9F09-BFEC2EA3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BCC3-C80D-4DEF-9FE2-09154351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B953-DF94-4CB5-A127-84E07C38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687B-6EC6-47C5-82A6-AABEB08E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1BE2-5FCA-4C50-8D38-E9C24FE6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85C3B-BFCD-4321-9703-4A0C6EEB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F26A1-7B54-4289-AE09-E5D7CA6D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62A8D-EB2E-413F-8056-C335C0F6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94554-3E53-4524-946F-56AB5170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9E042-2B1B-4C13-A834-1C728E62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4445-6416-4363-AA95-613DF6B5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DA67C-A3CF-4395-B1C0-2A87A40F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52DEB-1B49-4BA4-BAE3-87BB6FBB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7427EF-4E93-4020-A1B4-4634C815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F64CF-4259-489F-B349-B83EB4DC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EBB2D-9DFE-4538-9933-75730E95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8C05C-73EF-4781-9119-18E60F76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567EC-E31B-40ED-B8A1-BFF406C9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B01EB-A277-45B8-95AC-7AF19B0E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2688A-A917-48BA-B8BF-822ECC83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EE960-EE44-4314-9DDD-E75D5EDA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2A9-2757-4074-92D7-7AF53BD7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27F3C-4929-458C-A5E3-95A38E6A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9887E-481C-4A93-B7B7-55588AE3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C0C0E-1AF9-466E-B879-67509F02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8650C-B2AA-483C-BACB-AF62FC62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6F21A-9A09-41BF-832C-32AE7C9D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ADF06-CFAA-48B7-B5ED-A872AF1D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8D98E-487C-46D2-80B9-01E45DD9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8F0D-BB1E-44D8-B3D6-E1030CD7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727A3-1124-49C2-A1EA-549AECD5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4DD28-1E5F-4010-A973-65BF6AB6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CAA-19B5-457C-9F02-6EB00764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9A7C60-6767-40AE-A70E-4065BB85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C8ECE-A8FB-4E49-AB72-0DC65EB3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A64EC-C226-4CF0-8ADF-2258E7C5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8A5AA7-B41F-49CE-9F33-F241256C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DC7A76-F2D9-42F1-846B-6564A44F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9AD27F-490B-493E-8FA5-C91D1FD7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ADD3F5-155B-498B-A2E0-18BE22B0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7F3D1D-7E44-4E5E-98D7-D73BC06D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194DE-86F3-4B8F-8A30-467A8BAE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16443-66EC-4544-B2AD-8759174D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E6C-E748-4020-8BF8-E9CDC6BC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477A3-6D4D-4D21-B567-3C4B8259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A46E8-246F-4AA2-AE0A-9BC99850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0403D-8520-4C56-B0AB-056AB927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A8FBAD-82C1-41A4-86B4-CEEB88A3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95516C-5E14-442B-B405-A5642388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039D2E-C31C-42F2-92EC-38FBF76E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9A785E-C797-4DB3-8B08-8E58A267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055362-B759-4D17-9FEC-2C98A354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950F3E-B473-4AE0-ACD4-BB75AE79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299C77-7804-4705-806E-581D8858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50C-D495-4DA5-82AC-044C5EA6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9EF27-65ED-4795-8DE6-AF57E11E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018EB-CE5D-4F95-9D3F-D84BC936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9B5AA-8273-4BD0-BB0D-E3A5B798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E9B05E-AD90-48F3-9D10-41680936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A1EF65-275C-4DDF-9C3F-4EA6F209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0333D-71DD-4226-9CD9-986FE18E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1A154-B615-4EF4-8121-47BF150C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C61854-F6DC-44EB-A3AB-2E9C1281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A2C3F-0885-4D2C-9525-4CFEB9D8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40AFF-F3CF-457C-8332-5B88797E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5CFF-A347-4D10-B42D-70050CFE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AC964E-FE8E-4B2E-9C00-B2CF93D5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8666B-905E-43F5-8206-C0A01015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917D89-14C3-4463-AFB2-C6BF616C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D762B-8417-4FB7-9DFA-80E5A7EF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A2B287-BB00-4A14-8996-FEADAB97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E4A-0A11-4326-8C1B-CB8918D8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74D8-EDC2-4982-9B81-7AE54D27BE31}" type="datetime"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027A-0A6D-4998-87B8-5E718A5488F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85A8-44B6-4815-9C39-21DB0AD80C04}" type="datetime"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CBA0-DBCD-4DA0-A16C-F94FEF9AD52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1C8A-E91F-4B53-AEA4-8EC3AE7FB23D}" type="datetime"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39C6-2F0B-4E48-99C1-59BF816980D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1B48-2C84-485B-8E61-21F6B27186F5}" type="datetime">
              <a:rPr b="0" lang="en-US" sz="1200" spc="-1" strike="noStrike">
                <a:solidFill>
                  <a:srgbClr val="eeece1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A121-4341-4868-84C6-0379C99190A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E3B4-848E-41B7-A131-94A9A2F1D4B6}" type="datetime"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6B8F-A708-426B-9435-C0525DF7F47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D4A5-09ED-462B-839E-154B887BA39E}" type="datetime"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DA9D-8FB1-4B5A-AFDB-807A319ADDD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AD1F-75C3-4770-9EF6-7688A9DCD7AD}" type="datetime"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C0EC-B741-4FE3-AE81-25079722125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68000" y="691920"/>
            <a:ext cx="61722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eece1"/>
                </a:solidFill>
                <a:latin typeface="Century Schoolbook"/>
              </a:rPr>
              <a:t>РАЗЛИЧЕНИЕ ПРЕДЛОЖЕНИЙ ПО ЦЕЛИ ВЫСКАЗЫВАНИЯ </a:t>
            </a:r>
            <a:endParaRPr b="0" lang="en-US" sz="27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856880" y="2143080"/>
            <a:ext cx="69296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Столица нашей родины – город Москва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3" name="Номер слайда 9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A35A-E3D6-4FFF-B6BA-FAB868D3D3E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0"/>
          <p:cNvSpPr/>
          <p:nvPr/>
        </p:nvSpPr>
        <p:spPr>
          <a:xfrm>
            <a:off x="2714760" y="3429000"/>
            <a:ext cx="33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.  побуд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1"/>
          <p:cNvSpPr/>
          <p:nvPr/>
        </p:nvSpPr>
        <p:spPr>
          <a:xfrm>
            <a:off x="3857760" y="414324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.  вопрос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4643280" y="492912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. повествов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250" autoRev="1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8,-24,-38)"/>
                                      </p:to>
                                    </p:set>
                                    <p:set>
                                      <p:cBhvr>
                                        <p:cTn id="7" dur="250" autoRev="1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8,-24,-38)"/>
                                      </p:to>
                                    </p:set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68000" y="765000"/>
            <a:ext cx="61722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eece1"/>
                </a:solidFill>
                <a:latin typeface="Century Schoolbook"/>
              </a:rPr>
              <a:t>РАЗЛИЧЕНИЕ ПРЕДЛОЖЕНИЙ ПО ЦЕЛИ ВЫСКАЗЫВАНИЯ </a:t>
            </a:r>
            <a:endParaRPr b="0" lang="en-US" sz="27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856880" y="2143080"/>
            <a:ext cx="69296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Приезжайте в гости к нам!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Номер слайда 9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53D5-6553-4AE8-8C4C-EE7D84E5F5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0"/>
          <p:cNvSpPr/>
          <p:nvPr/>
        </p:nvSpPr>
        <p:spPr>
          <a:xfrm>
            <a:off x="2714760" y="3429000"/>
            <a:ext cx="33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.  побуд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1"/>
          <p:cNvSpPr/>
          <p:nvPr/>
        </p:nvSpPr>
        <p:spPr>
          <a:xfrm>
            <a:off x="3857760" y="414324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.  вопрос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4643280" y="492912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. повествов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" dur="250" autoRev="1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8,-24,-38)"/>
                                      </p:to>
                                    </p:set>
                                    <p:set>
                                      <p:cBhvr>
                                        <p:cTn id="17" dur="250" autoRev="1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8,-24,-38)"/>
                                      </p:to>
                                    </p:set>
                                    <p:set>
                                      <p:cBhvr>
                                        <p:cTn id="18" dur="250" autoRev="1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68000" y="691920"/>
            <a:ext cx="61722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eece1"/>
                </a:solidFill>
                <a:latin typeface="Century Schoolbook"/>
              </a:rPr>
              <a:t>РАЗЛИЧЕНИЕ ПРЕДЛОЖЕНИЙ ПО ЦЕЛИ ВЫСКАЗЫВАНИЯ </a:t>
            </a:r>
            <a:endParaRPr b="0" lang="en-US" sz="27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856880" y="2143080"/>
            <a:ext cx="69296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Кто бывал в Москве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Номер слайда 9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ADDE-A1D8-4924-94E0-F7B532C68B8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0"/>
          <p:cNvSpPr/>
          <p:nvPr/>
        </p:nvSpPr>
        <p:spPr>
          <a:xfrm>
            <a:off x="2714760" y="3429000"/>
            <a:ext cx="33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.  побуд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1"/>
          <p:cNvSpPr/>
          <p:nvPr/>
        </p:nvSpPr>
        <p:spPr>
          <a:xfrm>
            <a:off x="3857760" y="414324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.  вопрос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2"/>
          <p:cNvSpPr/>
          <p:nvPr/>
        </p:nvSpPr>
        <p:spPr>
          <a:xfrm>
            <a:off x="4643280" y="49291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. повествов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" dur="250" autoRev="1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8,-24,-38)"/>
                                      </p:to>
                                    </p:set>
                                    <p:set>
                                      <p:cBhvr>
                                        <p:cTn id="27" dur="250" autoRev="1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8,-24,-38)"/>
                                      </p:to>
                                    </p:set>
                                    <p:set>
                                      <p:cBhvr>
                                        <p:cTn id="28" dur="250" autoRev="1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68000" y="765000"/>
            <a:ext cx="61722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eece1"/>
                </a:solidFill>
                <a:latin typeface="Century Schoolbook"/>
              </a:rPr>
              <a:t>РАЗЛИЧЕНИЕ ПРЕДЛОЖЕНИЙ ПО ЦЕЛИ ВЫСКАЗЫВАНИЯ </a:t>
            </a:r>
            <a:endParaRPr b="0" lang="en-US" sz="27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856880" y="2143080"/>
            <a:ext cx="69296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Сердце Москвы – Красная площадь, Кремль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Номер слайда 9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0594-890C-47EC-80A4-5461991D965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0"/>
          <p:cNvSpPr/>
          <p:nvPr/>
        </p:nvSpPr>
        <p:spPr>
          <a:xfrm>
            <a:off x="2714760" y="3429000"/>
            <a:ext cx="33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.  побуд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1"/>
          <p:cNvSpPr/>
          <p:nvPr/>
        </p:nvSpPr>
        <p:spPr>
          <a:xfrm>
            <a:off x="3857760" y="414324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.  вопрос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2"/>
          <p:cNvSpPr/>
          <p:nvPr/>
        </p:nvSpPr>
        <p:spPr>
          <a:xfrm>
            <a:off x="4643280" y="49291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. повествов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" dur="250" autoRev="1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8,-24,-38)"/>
                                      </p:to>
                                    </p:set>
                                    <p:set>
                                      <p:cBhvr>
                                        <p:cTn id="37" dur="250" autoRev="1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8,-24,-38)"/>
                                      </p:to>
                                    </p:set>
                                    <p:set>
                                      <p:cBhvr>
                                        <p:cTn id="38" dur="250" autoRev="1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68000" y="765000"/>
            <a:ext cx="61722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eece1"/>
                </a:solidFill>
                <a:latin typeface="Century Schoolbook"/>
              </a:rPr>
              <a:t>РАЗЛИЧЕНИЕ ПРЕДЛОЖЕНИЙ</a:t>
            </a:r>
            <a:br>
              <a:rPr sz="2700"/>
            </a:br>
            <a:r>
              <a:rPr b="1" lang="en-US" sz="2700" spc="-1" strike="noStrike">
                <a:solidFill>
                  <a:srgbClr val="eeece1"/>
                </a:solidFill>
                <a:latin typeface="Century Schoolbook"/>
              </a:rPr>
              <a:t> ПО  ИНТОНАЦИИ </a:t>
            </a:r>
            <a:endParaRPr b="0" lang="en-US" sz="27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856880" y="2143080"/>
            <a:ext cx="69296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Столица нашей родины – город Москва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7" name="Номер слайда 9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A29F-E587-4156-A1A9-C9A6B42D2C1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2714760" y="342900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.  невосклиц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4286160" y="5143680"/>
            <a:ext cx="350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.  вопрос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3500280" y="428616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. восклиц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8,-24,-38)"/>
                                      </p:to>
                                    </p:set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8,-24,-38)"/>
                                      </p:to>
                                    </p:set>
                                    <p:set>
                                      <p:cBhvr>
                                        <p:cTn id="48" dur="250" autoRev="1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68000" y="765000"/>
            <a:ext cx="61722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eece1"/>
                </a:solidFill>
                <a:latin typeface="Century Schoolbook"/>
              </a:rPr>
              <a:t>РАЗЛИЧЕНИЕ ПРЕДЛОЖЕНИЙ </a:t>
            </a:r>
            <a:br>
              <a:rPr sz="2700"/>
            </a:br>
            <a:r>
              <a:rPr b="1" lang="en-US" sz="2700" spc="-1" strike="noStrike">
                <a:solidFill>
                  <a:srgbClr val="eeece1"/>
                </a:solidFill>
                <a:latin typeface="Century Schoolbook"/>
              </a:rPr>
              <a:t>ПО  ИНТОНАЦИИ </a:t>
            </a:r>
            <a:endParaRPr b="0" lang="en-US" sz="27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856880" y="2143080"/>
            <a:ext cx="69296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Приезжайте в гости к нам!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3" name="Номер слайда 9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92A5-120C-481A-BD9C-EE12A99FB33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0"/>
          <p:cNvSpPr/>
          <p:nvPr/>
        </p:nvSpPr>
        <p:spPr>
          <a:xfrm>
            <a:off x="2714760" y="342900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.  невосклиц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4286160" y="5143680"/>
            <a:ext cx="350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.  вопрос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"/>
          <p:cNvSpPr/>
          <p:nvPr/>
        </p:nvSpPr>
        <p:spPr>
          <a:xfrm>
            <a:off x="3500280" y="428616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. восклиц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8,-24,-38)"/>
                                      </p:to>
                                    </p:set>
                                    <p:set>
                                      <p:cBhvr>
                                        <p:cTn id="57" dur="250" autoRev="1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8,-24,-38)"/>
                                      </p:to>
                                    </p:set>
                                    <p:set>
                                      <p:cBhvr>
                                        <p:cTn id="58" dur="250" autoRev="1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68000" y="691920"/>
            <a:ext cx="61722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eece1"/>
                </a:solidFill>
                <a:latin typeface="Century Schoolbook"/>
              </a:rPr>
              <a:t>РАЗЛИЧЕНИЕ ПРЕДЛОЖЕНИЙ </a:t>
            </a:r>
            <a:br>
              <a:rPr sz="2700"/>
            </a:br>
            <a:r>
              <a:rPr b="1" lang="en-US" sz="2700" spc="-1" strike="noStrike">
                <a:solidFill>
                  <a:srgbClr val="eeece1"/>
                </a:solidFill>
                <a:latin typeface="Century Schoolbook"/>
              </a:rPr>
              <a:t>ПО  ИНТОНАЦИИ </a:t>
            </a:r>
            <a:endParaRPr b="0" lang="en-US" sz="27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856880" y="2143080"/>
            <a:ext cx="69296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Кто бывал в Москве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9" name="Номер слайда 9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F145-3A44-4B2A-A982-3415C7E33DD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0"/>
          <p:cNvSpPr/>
          <p:nvPr/>
        </p:nvSpPr>
        <p:spPr>
          <a:xfrm>
            <a:off x="2714760" y="342900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.  невосклиц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1"/>
          <p:cNvSpPr/>
          <p:nvPr/>
        </p:nvSpPr>
        <p:spPr>
          <a:xfrm>
            <a:off x="4286160" y="5143680"/>
            <a:ext cx="350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.  вопрос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2"/>
          <p:cNvSpPr/>
          <p:nvPr/>
        </p:nvSpPr>
        <p:spPr>
          <a:xfrm>
            <a:off x="3500280" y="428616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. восклиц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8,-24,-38)"/>
                                      </p:to>
                                    </p:set>
                                    <p:set>
                                      <p:cBhvr>
                                        <p:cTn id="67" dur="250" autoRev="1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8,-24,-38)"/>
                                      </p:to>
                                    </p:set>
                                    <p:set>
                                      <p:cBhvr>
                                        <p:cTn id="68" dur="250" autoRev="1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68000" y="836640"/>
            <a:ext cx="61722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eece1"/>
                </a:solidFill>
                <a:latin typeface="Century Schoolbook"/>
              </a:rPr>
              <a:t>РАЗЛИЧЕНИЕ ПРЕДЛОЖЕНИЙ </a:t>
            </a:r>
            <a:br>
              <a:rPr sz="2700"/>
            </a:br>
            <a:r>
              <a:rPr b="1" lang="en-US" sz="2700" spc="-1" strike="noStrike">
                <a:solidFill>
                  <a:srgbClr val="eeece1"/>
                </a:solidFill>
                <a:latin typeface="Century Schoolbook"/>
              </a:rPr>
              <a:t>ПО  ИНТОНАЦИИ </a:t>
            </a:r>
            <a:endParaRPr b="0" lang="en-US" sz="27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856880" y="2143080"/>
            <a:ext cx="69296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Сердце Москвы – Красная площадь, Кремль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5" name="Номер слайда 9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3978-9F60-4DF7-AFC7-827D96FD87A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0"/>
          <p:cNvSpPr/>
          <p:nvPr/>
        </p:nvSpPr>
        <p:spPr>
          <a:xfrm>
            <a:off x="2714760" y="342900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.  невосклиц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4286160" y="5143680"/>
            <a:ext cx="350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.  вопрос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3500280" y="428616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. восклиц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250" autoRev="1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8,-24,-38)"/>
                                      </p:to>
                                    </p:set>
                                    <p:set>
                                      <p:cBhvr>
                                        <p:cTn id="77" dur="250" autoRev="1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8,-24,-38)"/>
                                      </p:to>
                                    </p:set>
                                    <p:set>
                                      <p:cBhvr>
                                        <p:cTn id="78" dur="250" autoRev="1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3:29:22Z</dcterms:created>
  <dc:creator>Игорь Саченко</dc:creator>
  <dc:description/>
  <dc:language>en-US</dc:language>
  <cp:lastModifiedBy>Успехов тебе</cp:lastModifiedBy>
  <dcterms:modified xsi:type="dcterms:W3CDTF">2008-12-13T08:48:08Z</dcterms:modified>
  <cp:revision>6</cp:revision>
  <dc:subject/>
  <dc:title>Различение предложений по цели высказывания</dc:title>
</cp:coreProperties>
</file>